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A1A-23C1-44B8-9537-EEF39313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954-C4E9-4962-A6A8-3FE0973F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494-1594-4854-9F0A-B034BBB9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D6E-AEE7-449E-86DD-FD750EC9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B50-F655-4DFD-A74E-2FB51F77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C6D-F4B9-4923-ACFE-050525C3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0F1-F0DA-4C0C-A6F8-60B25FD5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0CD-3BC3-45B4-8A1D-BFD947D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617-485C-4062-8000-7A79884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2BF-0CB3-4408-952D-C2407C61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893-825C-4C45-B278-88341BF3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317-8CD3-4255-98B1-6C3A157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8BA-2759-4C74-AC22-7269BE6D7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3240"/>
            <a:ext cx="483408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لحمدُ والشكرا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مجدُ والسلطان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القُدرة لإلهنا لا لا  لا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لهُ الحكمة والقُوَّة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عزُّ والاجلال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إلى أبدِ الآبدي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        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حمدُ والشكر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مجدُ والسلط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قدرة لإلهن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             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مُستَحِقٌ أن يَنَال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كُلَّ حُبٍّ وإكرام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جالِسْ عَلى عَرْشِ السَماو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ت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935640" y="3240"/>
            <a:ext cx="55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طوبى للذي يحفظْ وصايَا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عتصِمُ في ظِلِّ جَنَاحي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يُثمِرُ بالبِرِّ والقَدَاسة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فْرحْ في ملكوتِكَ  لا  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421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طوبى للذيِنَ يتَّقون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َبْرَحونَ يسبِّحون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لا يجوعونَ لا يعطشون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ْ نبعِ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حياةِ يرتوون  لا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923400" y="4816440"/>
            <a:ext cx="57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ى للَّذي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تَواْ مِنَ الضيق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لوِّحو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غصانَ النخيلِ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ِدَمِ الحَمَلِ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َسَلُوا حُلَلَهُ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يَحُلُّ فوقهُم  لا  لا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3:43Z</dcterms:modified>
  <cp:revision>5</cp:revision>
  <dc:subject/>
  <dc:title>PowerPoint Presentation</dc:title>
</cp:coreProperties>
</file>